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FBFE-2D91-4E5E-8FDD-D50D5537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C610-E1EC-419E-8328-A271E2CB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86A2-F2DF-4E9B-8428-E9CF2501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3AAB-2346-430F-B43C-69877E37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D447-513F-42CC-948A-A1FCB2FF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B2BE-ACF8-4F92-B48A-29E26498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7E02-B89B-4873-AD2D-CBBD8670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4E6E-1B74-4FF2-9F85-6A520860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E19F-064F-4524-9F93-D96A1DEB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33E9-2608-4520-B125-D3ABAB5A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DD29-26CE-4D95-B16D-95079D26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76F2-997C-4A9A-9EAB-15AD5D4F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0057-1444-41F9-8CE0-67546469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6271-7205-449C-9662-572BE1CA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0BEF-819F-4F60-91F5-87B4EF1F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E714-B9D7-456A-B2FF-8E7B6E16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2B04-1443-4CC7-A324-732331DD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F7D1-D5DA-4F77-A9E4-6ABE52E9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EAA2-F556-40E8-A104-DF188F85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21AD-2478-4481-A2FA-D46961B3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D72F-4444-42A3-B4BD-8BBDDAB2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3FF4-16BE-420F-96B0-7AC830E6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843F-D79B-48AE-A583-1F8C99E3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2D8C-BE8F-4788-B5F3-AEE208FD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F808-902C-4073-A136-201CBAC3C2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CE45-6045-48E8-A15B-DEDCC69628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nellen.com/cybereng/lit_terms/metaphor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English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gend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part of ch.1 together, discu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y for first part of no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. 1 Journal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nders: AR is due Thursday, worth a test g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I will still be checking your DOL notebook once before the quarter 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O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ings to think about as we read ch. 1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novel is considered a modern class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ls with some mature issues, Cormier wanted it to be authentic to the way teenagers talk to each other, so there are some curse word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akes place in the early 1970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is an allegory, meaning that it is a form of extended 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metapho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in which objects, persons, and actions in a narrative, are equated with the meanings that lie outside the narrative itself. The underlying meaning has moral, social, religious, or political significance . (Some kind of bigger mea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2:55:55Z</dcterms:created>
  <dc:creator>Angie</dc:creator>
  <dc:description/>
  <dc:language>en-US</dc:language>
  <cp:lastModifiedBy>Angie</cp:lastModifiedBy>
  <dcterms:modified xsi:type="dcterms:W3CDTF">2009-09-29T03:53:14Z</dcterms:modified>
  <cp:revision>2</cp:revision>
  <dc:subject/>
  <dc:title>English</dc:title>
</cp:coreProperties>
</file>